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9E84-0D65-4E38-BCC2-C4B91510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96B7-F6BD-462A-B8B9-A1022DE01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999-7718-43B6-9B49-03746FE38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8A9-3BF8-4EA8-B8D5-090378197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0D1-1581-4AE3-AF61-8FCAE2FDFE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86C2-0B49-47B6-94C3-AC3C25D82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E64-13D2-474C-AA95-F7B1AC284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DD4-7968-493A-9215-C0A30F4E6B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923B-50FD-40F2-9ADA-A6919663C3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15A8-9872-490A-963E-155483ADD3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F23-C43E-4D57-B781-535ED2BAA8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2B6-242F-4C30-88DC-87E78AC7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A95-A5F6-4C11-8B3E-60478B4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0BE-DAB4-4521-92B1-7FC039BF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835-1FB8-477A-9F4E-2E8B2CB9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531-FB36-4FCB-9554-9FA5CAF0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0F2-F641-4BFF-B342-01DC4D7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A79-7731-4BFF-8B5C-FB7464D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A91-442B-467C-8810-AA972E9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7230-C116-4859-AE49-ABCAE9C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298B-8799-4BF5-B6FA-63AD680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33B-CEDA-44ED-BDF7-BCD5DBAD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366A-6030-44AC-AC95-22368C8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5514-E52D-43C6-8E7C-125F552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100-4639-4CF5-8385-1E948A4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795-5FA0-4506-B389-567D064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2DB-F18B-4A01-B38B-170B6AB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9F5-C701-46F7-824F-10DEB9C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A076-D1CA-4F4A-8F0B-2D8E58DE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84A-30CB-41A2-955F-33D85A3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A4A-C2B3-418B-89BE-CACD0AB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5C3-FE86-46F8-9508-0D061763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FD9-9CA5-480E-97D3-2FF1A44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469-C4A1-4F49-B170-1BB0617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B77-F9F2-4A8E-880A-176A8E77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55E-6B26-4609-969D-78B8309E72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D163-0070-43C9-B542-95D6ABE3D3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08992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ronouns pronoun agreement grammar Grammar Bytes! Robin L. Simmons</cp:keywords>
  <dc:language>en-US</dc:language>
  <cp:lastModifiedBy>RSimmons</cp:lastModifiedBy>
  <dcterms:modified xsi:type="dcterms:W3CDTF">2010-01-04T18:30:12Z</dcterms:modified>
  <cp:revision>302</cp:revision>
  <dc:subject/>
  <dc:title>Pronoun Agreement</dc:title>
</cp:coreProperties>
</file>